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7CA-122E-4B15-BFB0-8D82DC4F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F5F-7120-41EC-9CAF-11006B45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9FC9-0A3D-4AB2-9BB0-CB789AEA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277-7A73-48A8-A2F4-118D3DC5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7D6C-6CBD-4A6D-9886-15E526C0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B1EB-C6CD-475A-8F35-70DB80AB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3FC5-DAC7-471E-9194-CA38FBC1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45B-658A-4C18-97A5-42775C63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FD2-681D-4D62-9EC6-973F3E8F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E67-5DE1-4FAD-A014-68EE0725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90C-3AC7-459D-89CB-E8A1404F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8C0-53E6-45D5-BCFD-5EF06C83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1359-2667-44A0-8BC3-0F6FC365A9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0" y="250020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0" y="584352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19160" y="114480"/>
          <a:ext cx="8858160" cy="2428560"/>
        </p:xfrm>
        <a:graphic>
          <a:graphicData uri="http://schemas.openxmlformats.org/drawingml/2006/table">
            <a:tbl>
              <a:tblPr/>
              <a:tblGrid>
                <a:gridCol w="6072120"/>
                <a:gridCol w="2786040"/>
              </a:tblGrid>
              <a:tr h="2428560"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государственный совет по стандартизации, метрологии и сертификации 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6"/>
          <p:cNvSpPr/>
          <p:nvPr/>
        </p:nvSpPr>
        <p:spPr>
          <a:xfrm>
            <a:off x="0" y="258552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СЕД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ей группы по неразрушающему контролю  Научно-технической комиссии по метрологи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3 РГ НК НТКМетр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2286000" y="5945040"/>
            <a:ext cx="45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 октября 2011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шкент, Узбекист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МГС"/>
          <p:cNvPicPr/>
          <p:nvPr/>
        </p:nvPicPr>
        <p:blipFill>
          <a:blip r:embed="rId1"/>
          <a:srcRect l="0" t="0" r="55374" b="39559"/>
          <a:stretch/>
        </p:blipFill>
        <p:spPr>
          <a:xfrm>
            <a:off x="6558120" y="0"/>
            <a:ext cx="2381040" cy="241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42920" y="1893960"/>
            <a:ext cx="88581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воначально требования к лабораториям НК базировались на положениях международного стандарта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ИСО/МЭК 17025:1999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а национальные документы в области подготовки и сертификации персонала НК – на межгосударственных стандартах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ГОСТ 30488-97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                       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ГОСТ 30489-97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снову которых составляли европейские стандарты 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ЕН 45013-89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ЕН 473-9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соответственн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00160" y="285120"/>
            <a:ext cx="87152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елью объединения профессионального потенциала специалистов НК Узбекистана и организации обмена опытом и информационного обеспечения в области НК с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00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 в Узбекистане регулярно, с периодичностью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ин раз в два г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водятся совместно с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 «Саноатгеоконтехназорат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практические конференции по актуальным вопросам НК. В конференциях принимают участие специалисты НК практически всех отраслей экономики Узбекистана и ведущие специалисты НК СН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знаковой была конференция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00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, в работе которой участвовали президент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дународного комитета Н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ице-президент Российского общества НК, технический эксперт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ГАТЭ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бласти НК, специалисты НК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захста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краи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обрившие основные принципы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ные в основу национальных нормативных документов в обла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71280" y="1580400"/>
            <a:ext cx="88585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нейший импульс развитию работ в области НК дало принятие в 2006 году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а Республики Узбекистан «О промышленной безопасности опасных производственных объектов». Специалистами ГИ «Саноатгеоконтехназорат» была разработана Концепция формирования и развития системы неразрушающего контроля в сфере промышленной безопасности, утвержденная в декабре 2008 постановлением Кабинета Министров Узбекистан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14200" y="1274760"/>
            <a:ext cx="8715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а работа по консолидации практикующих специалистов неразрушающего контроля страны, приведшая к созданию в 2008 году Узбекистанского общества неразрушающего контроля (УзОНК). В 2010 году на заседании Генеральной Ассамблеи Международного Комитета по Неразрушающему Контролю УзОНК принято в Комитет в качестве действительного члена. В настоящее время национальное общество НК имеет соглашения о сотрудничестве с аналогичными организациями России, Казахстана, Украины, участвует в издании международного журнала по НК «Территор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85840" y="857160"/>
            <a:ext cx="85723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последние годы в Узбекистане активно внедряются международные стандарты в области оценки соответствия серии ИСО/МЭК 17000. В качестве национальных стандартов введены ИСО/МЭК 17025:2005, ИСО/МЭК 17024:2003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уквально на днях утвержден государственный стандарт Узбекистана на базе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ИСО 9712:2005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связи с введением новых стандартов в сфере оценки соответствия пересмотрены национальные требования к лабораториям НК и к субъектам деятельности и процедурам в области подготовки и сертификации персонала Н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71280" y="555480"/>
            <a:ext cx="8786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жалению, медленно проходит внедрение в область НК требований международного стандарта ИСО/МЭК 17025 и положений концепции неопределенности измерений. Соответственно тормозится внедрение в практику НК положений международных стандартов серии ИС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725. Слабо используются в области НК процедуры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лабораторных сравн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Узбекистане действует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лее 5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й НК, объединяющих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оло 2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алистов разных уровней квалификации. Из общего числа лабораторий аккредитовано в национальной системе аккредитации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лько 1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 сих пор в области промышленной безопасности функционируют лаборатории НК,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прошедшие аккредит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42920" y="285840"/>
            <a:ext cx="8858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збекистане при Навоийском горно-металлургическом комбинате действует Орган по сертификации персонала НК «Центральная лаборатория НК»,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ккредитованный в национальной системе аккредитации с 2009 года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временно ОСПНК аккредитован также в Системе добровольной сертификации персонала РОНКТД с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осуществляется в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ккредитованном Учебном Центр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НК при ПО «Навоийский машиностроительном завод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ме указанного органа по сертификации, действует аттестационный центр по НК (АЦНК «Нур») в г. Чирчик. Центр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 проходил аккредит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что делает невозможным признание выдаваемых им сертификатов при аккредитации лаборатори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 эти сертификаты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ка  признаются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И «Саноатгеоконтехназорат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285840" y="714240"/>
            <a:ext cx="850104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ряду с традиционными методами неразрушающего контроля, такими, как ультразвуковой, радиографический или капиллярный, в Узбекистане все шире внедряются современные методы: акусто-эмиссионный, тепловизионный и други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ыстро развивающаяся промышленность Узбекистана ставит перед системой НК все новые и новые задачи в плане обеспечения качества выпускаемой продукции и обеспечения промышленной безопасности. Это делает важным и актуальным дальнейшее развитие НК в соответствии с требованиями международных стандарт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 rot="16200000">
            <a:off x="-2629440" y="301680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Структура национальной 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неразрушающего контр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rcRect l="1572" t="0" r="0" b="0"/>
          <a:stretch/>
        </p:blipFill>
        <p:spPr>
          <a:xfrm>
            <a:off x="1214280" y="0"/>
            <a:ext cx="6715440" cy="692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214200" y="3240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Общество по неразрушающему контролю Узбекистан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(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УзОНК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)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79280" y="830160"/>
            <a:ext cx="364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Зарегистрировано в Министерстве юсти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Республики Узбекистана 29.10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лого FIN (узб)"/>
          <p:cNvPicPr/>
          <p:nvPr/>
        </p:nvPicPr>
        <p:blipFill>
          <a:blip r:embed="rId1"/>
          <a:stretch/>
        </p:blipFill>
        <p:spPr>
          <a:xfrm>
            <a:off x="6858000" y="552600"/>
            <a:ext cx="1400040" cy="695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587520" y="1355760"/>
            <a:ext cx="7902360" cy="542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214200" y="144936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тство «Узстандарт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заседанию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РГ НК НТКМетр МГ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 состоянии работ в области неразрушающего контроля в Узбекистан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142920" y="747000"/>
            <a:ext cx="885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заседании Генеральной Ассамблеи Международного Комитета по Неразрушающему Контролю (ICNDT), проходившей одновременно с 10-ой Европейской конференцией по неразрушающему контролю (Москва, 7-11 июня 2010 г.), было рассмотрено заявление от УзОНК о вступлении в Комитет в качестве полноправног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лена (full member). УзОНК принято в ICNDT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диноглас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уководитель комитета по сертификации персонала неразрушающего контроля в ICNDT м-р Джон Томпсон предложил рассмотреть вопрос о подписании Узбекистаном многостороннего соглашения о взаимопризнании сертификатов компетенции персонала неразрушающего контро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468360" y="155736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0d0d"/>
                </a:solidFill>
                <a:latin typeface="Arial Black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14200" y="1548360"/>
            <a:ext cx="8643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система неразрушающего контроля стала формироваться в 1999 году, когда приказом Узгосстандарта (ныне – Агентство «Узстандарт») был образован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центр неразрушающего контроля Республики Узбекистан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ЦНК РУ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функции которого были возложены на Научно-исследовательский институт стандартизации, метрологии и сертификации (НИИСМС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285840" y="1357200"/>
            <a:ext cx="857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направлением деятельности ГЦНК РУз было определено содействие обеспечению единства испытаний и измерений в области неразрушающего контроля (НК) путем исследований и разработки основополагающих нормативных документов и методической помощи субъектам национальной системы Н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14200" y="35712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мках государственной научно-технической программы Комитета по координации развития науки и технологий при Кабинете Министров Республики Узбекистан в НИИСМС в 2000 году была разработана Концепция национальной системы неразрушающего контроля, утвержденная Узгосстандарт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лане реализации Концепции стала создаваться нормативная основа этой системы, представленная комплектом основополагающих организационно-методических нормативных документов государственного уровня, включающим 10 государственных стандартов и руководящих документов Узбекиста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14200" y="142920"/>
            <a:ext cx="8786880" cy="64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Были нормативно установлены: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щие принципы, правила и нормы организации и проведения неразрушающего контроля (НК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требования к лабораториям неразрушающего контрол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щие и специальные требования к процедурам аккредитации лабораторий НК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требования к методикам и инструкциям НК, порядок их разработки, аттестации и  регистраци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требования к подготовке и сертификации персонала НК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требования к учебным и экзаменационным центра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щие и специальные требования к процедурам аккредитации учебных и экзаменационных центров системы сертификации персонала НК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214200" y="2714760"/>
            <a:ext cx="86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нормативной основы национальной системы НК проводилась при тесном взаимодействии с Агентством «Саноатконтехназорат» (ныне – Государственная инспекция по надзору за геологическим изучением недр, безопасным ведением работ в промышленности, горном деле и коммунально-бытовом секторе при Кабинете Министров Республики Узбекистан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И «Саноатгеоконтехназорат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и ведущими специалистами НК предприятий и организаций Узбекиста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285840" y="357120"/>
            <a:ext cx="85010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специальные требования к органам сертификации персонала НК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щие и специальные требования к процедурам аккредитации органов по сертификации персонала НК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орядок сертификации персонала Н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144360" y="216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ополагающие нормативные документы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збекистана в области неразрушающего контр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2920" y="857160"/>
          <a:ext cx="8858160" cy="5927760"/>
        </p:xfrm>
        <a:graphic>
          <a:graphicData uri="http://schemas.openxmlformats.org/drawingml/2006/table">
            <a:tbl>
              <a:tblPr/>
              <a:tblGrid>
                <a:gridCol w="2643120"/>
                <a:gridCol w="6215040"/>
              </a:tblGrid>
              <a:tr h="731880">
                <a:tc gridSpan="2">
                  <a:txBody>
                    <a:bodyPr lIns="35280" rIns="35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Государственные стандарты Узбеки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О‘z DSt 20.201:2001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испытаний продукции. Контроль неразрушающий. Организация и порядок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512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О‘z DSt 20.202:2001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испытаний продукции. Контроль неразрушающий. Требования к лабораториям неразрушающего контро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512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О‘z DSt 20.203: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  испытаний    продукции.  Контроль  неразрушающий. Подготовка и сертификация персонала. Общие треб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512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О‘z DSt 20.204:2002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 испытаний  продукции. Контроль неразрушающий. Требования к учебным и экзаменационным цент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512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О‘z DSt 20.205: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испытаний продукции. Контроль  неразрушающий. Инструкции и методики. Построение, содержание, изложение и оформ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512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О‘z DSt </a:t>
                      </a:r>
                      <a:r>
                        <a:rPr b="1" lang="en-US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ISO</a:t>
                      </a: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9712</a:t>
                      </a: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: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ISO</a:t>
                      </a: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9712</a:t>
                      </a: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:2005, </a:t>
                      </a:r>
                      <a:r>
                        <a:rPr b="1" lang="en-US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IDT</a:t>
                      </a: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  испытаний    продукции.  Контроль  неразрушающий. Подготовка и сертификация персонала. Общие треб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42920" y="500040"/>
          <a:ext cx="8858160" cy="5973840"/>
        </p:xfrm>
        <a:graphic>
          <a:graphicData uri="http://schemas.openxmlformats.org/drawingml/2006/table">
            <a:tbl>
              <a:tblPr/>
              <a:tblGrid>
                <a:gridCol w="2500200"/>
                <a:gridCol w="6357960"/>
              </a:tblGrid>
              <a:tr h="853560">
                <a:tc gridSpan="2">
                  <a:txBody>
                    <a:bodyPr lIns="35280" rIns="35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Руководящие документы Узбекист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04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О‘z RH 51-112: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360" marR="36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аккредитации Республики Узбекистан. Контроль неразрушающий. Аккредитация лабораторий неразрушающего контро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04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О‘z RH 51-121: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аккредитации Республики Узбекистан. Контроль неразрушающий. Аккредитация учебных и экзаменационных цен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04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О‘z RH 51-129: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система сертификации Республики Узбекистан. Контроль неразрушающий. Требования к органам по сертификации персон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04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О‘z RH 51-130: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система сертификации Республики Узбекистан. Контроль неразрушающий. Порядок сертификации персон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512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2035"/>
                          </a:solidFill>
                          <a:latin typeface="Times New Roman"/>
                          <a:ea typeface="Times New Roman"/>
                        </a:rPr>
                        <a:t>О‘z RH 51-131: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аккредитации Республики Узбекистан. Контроль неразрушающий. Аккредитация органов по сертификации персон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5280" marR="35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05:30:10Z</dcterms:created>
  <dc:creator>Alisher Hodjaev</dc:creator>
  <dc:description/>
  <dc:language>en-US</dc:language>
  <cp:lastModifiedBy>user</cp:lastModifiedBy>
  <dcterms:modified xsi:type="dcterms:W3CDTF">2011-11-08T06:24:11Z</dcterms:modified>
  <cp:revision>201</cp:revision>
  <dc:subject/>
  <dc:title>Заголовок слайда отсутствует</dc:title>
</cp:coreProperties>
</file>